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74400" y="726840"/>
            <a:ext cx="2511720" cy="362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6400" cy="435132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879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1879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lstStyle>
            <a:lvl1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B8944622-051C-41FD-BF53-409E90A7593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079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b">
            <a:noAutofit/>
          </a:bodyPr>
          <a:p>
            <a:pPr algn="r"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BCFFD41E-843C-4377-A766-89742D42838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174760" y="727200"/>
            <a:ext cx="2511720" cy="36255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64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7CD3-9F40-4F38-9381-CD468C9F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B977-AFDA-499B-9491-5C43D512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CAA3-4CC1-4F83-8DE6-8FFD849C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1515-9DC7-403C-934F-E0D83BD6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CD2F-2891-4CB7-9B45-BB6BDEEF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3A2C-2F85-4C42-B63F-F8F1E58A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A582-152F-4F90-9057-66A1CD03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0647-69CC-4CA7-B3FB-03E50180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7D51-156F-45B9-9E63-9450317C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FD2-F60D-4A93-AFCD-373B935E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A6CD-4EC2-4E10-AD80-13E810DA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0FAA-C783-4E01-84A3-9ECBB018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GB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EFB39EA0-CEF7-4952-9DAF-89DF4B0F7B51}" type="slidenum"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24"/>
          <p:cNvSpPr/>
          <p:nvPr/>
        </p:nvSpPr>
        <p:spPr>
          <a:xfrm>
            <a:off x="836640" y="344520"/>
            <a:ext cx="5329080" cy="86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97"/>
          <p:cNvSpPr/>
          <p:nvPr/>
        </p:nvSpPr>
        <p:spPr>
          <a:xfrm>
            <a:off x="533520" y="1676520"/>
            <a:ext cx="5919840" cy="1339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Modernizare Strada Kokenyes,, </a:t>
            </a: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23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IMARIA MUNICIPIULUI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8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WordArt 255"/>
          <p:cNvSpPr txBox="1"/>
          <p:nvPr/>
        </p:nvSpPr>
        <p:spPr>
          <a:xfrm>
            <a:off x="1752480" y="792468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PERTIZA TEHN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lucian</cp:lastModifiedBy>
  <cp:lastPrinted>2009-02-10T18:44:43Z</cp:lastPrinted>
  <dcterms:modified xsi:type="dcterms:W3CDTF">2014-09-08T18:52:05Z</dcterms:modified>
  <cp:revision>180</cp:revision>
  <dc:subject/>
  <dc:title>PowerPoint Presentation</dc:title>
</cp:coreProperties>
</file>